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4.png" ContentType="image/png"/>
  <Override PartName="/ppt/media/image27.png" ContentType="image/png"/>
  <Override PartName="/ppt/media/image13.jpeg" ContentType="image/jpeg"/>
  <Override PartName="/ppt/media/image23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3328-0B7B-4B93-AE0C-CC50848C2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5000" y="3824640"/>
            <a:ext cx="772632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9E11-2BBB-4654-8306-762DD448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5000" y="382464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4280" y="382464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2C17-65D5-48BE-B219-B99BD1838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7520" y="167616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9680" y="167616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5000" y="382464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7520" y="382464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9680" y="382464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F44A-DF08-41F2-94F6-CBFD490BB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DA63-BE77-4751-95D8-4C833B7C3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7AB3-AA1E-4817-9303-B1D07931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ED0A-9548-48A8-A121-F9F0B4B0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FB569-4AA1-4010-9F2D-145DF477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B4BE-2902-464B-B960-9D45C72D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166680"/>
            <a:ext cx="77706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4CD9-80ED-4E0C-A7E1-DECFC03D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5000" y="382464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F078-07FA-4DB5-8853-14956351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1E62-2AD6-4C8F-911C-691288D4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94280" y="382464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73D5-4F1B-453D-BB4A-E3B27322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5000" y="3824640"/>
            <a:ext cx="772632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8212-BBCB-48E8-BA6C-29675606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5000" y="3824640"/>
            <a:ext cx="772632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5A9E-1975-4DEF-872B-D1732529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5000" y="382464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94280" y="382464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D634-D37D-4ACB-8009-377CBADD6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7520" y="167616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59680" y="167616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5000" y="382464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7520" y="382464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59680" y="382464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C01A-B7D2-4AD0-9DD6-58CC447C1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6EDC-B43E-496A-8800-0B31C37B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4486-585E-4027-AA47-2CE8599D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86E3-5DC5-4F2F-8B24-CAD2B437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166680"/>
            <a:ext cx="77706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CF34-1F99-4803-A8D2-A6F67E56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5000" y="382464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FD72-1E94-4845-9FC0-78808697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4280" y="382464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F285-864F-4D94-AE82-23C0DDD7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5000" y="3824640"/>
            <a:ext cx="772632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CB8F-9775-4C38-9423-9793DEC9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alphaModFix amt="40000"/>
          </a:blip>
          <a:stretch/>
        </p:blipFill>
        <p:spPr>
          <a:xfrm>
            <a:off x="7315200" y="5510160"/>
            <a:ext cx="1828800" cy="1347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4440" indent="-334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26120" indent="-278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2" marL="111996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3" marL="156816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4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5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6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1722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7640" y="61722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0B5C8D-BD24-4AEE-A3F2-CD4DD4F4E1B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440" y="2967120"/>
            <a:ext cx="8026560" cy="144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188720"/>
            <a:ext cx="77709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8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05D233-FD09-4659-9E09-D176E45C0D3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0" y="198360"/>
            <a:ext cx="6858000" cy="27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The GMOD Project: Creating Reusable Software Components for Genome Data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731520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Scott Cain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GMOD Project Coordinator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Cold Spring Harbor Laboratory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2133720" cy="1573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hado – GMOD Schema</a:t>
            </a:r>
            <a:br>
              <a:rPr sz="4400"/>
            </a:b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David Emmert, Chris Mungall</a:t>
            </a:r>
            <a:endParaRPr b="0" lang="en-US" sz="32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0360" y="1728720"/>
            <a:ext cx="8963280" cy="34005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7080" y="6526080"/>
            <a:ext cx="22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Comic Sans MS"/>
              </a:rPr>
              <a:t>Slide from Stan Letovsk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nofuncs.diagram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427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360" y="166320"/>
            <a:ext cx="777060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hado Schema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1526400" y="5638680"/>
            <a:ext cx="539892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gram created by SQL::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What do you need for Chado?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26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PostgreSQL (Powerful OS RDMS)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BioPer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o-perl (Gene Ontology consortium’s perl tools)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Optional: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92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XORT, a perl tool for loading and dumping XML files to/from a database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92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ModWare, a BioPerl-compatible API built on Class::DBI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Do you need Chado?</a:t>
            </a:r>
            <a:br>
              <a:rPr sz="4400"/>
            </a:b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  It depends…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t is the medium of interoperation for many GMOD application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Chado is very good at capturing complex biological data, but…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t is a data warehouse, and so can be a little slow to query, so…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f you have only features on sequences, you probably want something else (but I’ve got that too)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89784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Comic Sans MS"/>
              </a:rPr>
              <a:t>Standard Browsers &amp; Editors</a:t>
            </a:r>
            <a:endParaRPr b="0" lang="en-US" sz="40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848720" cy="44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GBrowse – Web-based genome annotation viewing 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</a:rPr>
              <a:t>(Lincoln Stein, Scott Cain, CSHL)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Apollo – Desktop-based genome annotation editing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</a:rPr>
              <a:t>(Nomi Harris, Berkeley; Michelle Clamp, Broad)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CMap – Web-based comparative map viewing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</a:rPr>
              <a:t>(Ken Clark, Ben Faga, CSHL)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GMODWeb – “Skin-able” Chado-based web site 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</a:rPr>
              <a:t>(Allen Day, Brian O’Connor, UCLA)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Textpresso – An ontology driven literature search tool 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</a:rPr>
              <a:t>(Hans-Michael Mueller, CalTech)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GBrowse—the Generic Genome Browser (L. Stein, S. Cain)</a:t>
            </a:r>
            <a:endParaRPr b="0" lang="en-US" sz="40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609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Cross platform, CGI-based sequence feature browser.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upports multiple database backends (flat files; Bio::DB::GFF,SeqFeature; Chado; BioSQL)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Highly configurable.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User annotations and features.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Plugin architecture for importers, dumpers and drawers.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Lots of glyphs to choose from…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59" name="gbrowse-image-glyph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096040" cy="25905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195640" y="4267080"/>
            <a:ext cx="398160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Or create your ow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7706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GBrowse moving to web 2.0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62" name="GBrowse-watson-popup-balloon-cropped" descr=""/>
          <p:cNvPicPr/>
          <p:nvPr/>
        </p:nvPicPr>
        <p:blipFill>
          <a:blip r:embed="rId1"/>
          <a:stretch/>
        </p:blipFill>
        <p:spPr>
          <a:xfrm>
            <a:off x="0" y="1238400"/>
            <a:ext cx="7496280" cy="56196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753080" y="5181480"/>
            <a:ext cx="43945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jimwatsonsequence.cshl.ed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A synteny browser in GBrowse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65" name="synview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7105680" cy="31622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354320" y="5327640"/>
            <a:ext cx="60022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www.plasmodb.org, now distributed w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Browse in the ‘contrib’ directo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What do you need for GBrowse?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pache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libg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BioPer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ome place to put your data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ata: GFF2 or GFF3, or GenBank records, or something loaded in to Chado or BioSQL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837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Model Organism Database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575480" cy="397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Community-driven compilations of knowledge about one or more model organism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Genotype/phenotype correlations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Evolutionary relationship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Shared resource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3368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Genome annotation, stock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3368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Other key dataset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Installing GBrowse is easy (no, really!)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et Apache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et perl (only if on Windows)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et libgd (only if on a Unix-like)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et gbrowse-netinstall.pl from www.gmod.org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Run (sudo) perl gbrowse-netinstall.p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e http://www.gmod.org/GBrowse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Getting started with GBrowse is not too hard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ample data installed so browsing can start right away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 tutorial is included to cover many aspects of track configuration, including writing perl callbacks to do very sophisticated stuff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 very active user mailing list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Apollo (</a:t>
            </a: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Nomi Harris, Michelle Clamp, Mark Gibson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)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ownloadable Java application for editing genome annotation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orks with GAME-XML, Chado, Chado-xml, GFF, GenBank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http://www.fruitfly.org/annot/apollo for a double-click installer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Apollo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76" name="apollo-screenshot" descr=""/>
          <p:cNvPicPr/>
          <p:nvPr/>
        </p:nvPicPr>
        <p:blipFill>
          <a:blip r:embed="rId1"/>
          <a:stretch/>
        </p:blipFill>
        <p:spPr>
          <a:xfrm>
            <a:off x="0" y="809640"/>
            <a:ext cx="9144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Map (Ken Clark, Ben Faga)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omparative map viewer for physical, genetic and sequence map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eb base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eveloping an application to use as an assembly editor (CMAE)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Requires Apache, an RDMS, and many perl modules (Bundle::CMap)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618320" cy="9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Map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80" name="cmap-screenshot" descr=""/>
          <p:cNvPicPr/>
          <p:nvPr/>
        </p:nvPicPr>
        <p:blipFill>
          <a:blip r:embed="rId1"/>
          <a:stretch/>
        </p:blipFill>
        <p:spPr>
          <a:xfrm>
            <a:off x="0" y="933480"/>
            <a:ext cx="914400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GMODWeb—A mod-perl, template driven window into Chado (Allen Day, Brian O’Connor)</a:t>
            </a:r>
            <a:endParaRPr b="0" lang="en-US" sz="40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03124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Built on Turnkey (an autogenerated MVC website for any “reasonable” DB)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Uses SQL::Translator to create a perl Class::DBI API for a database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reates user-customizable templates for tables in the database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837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GMODWeb: Basic Skin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782" t="14582" r="8593" b="9375"/>
          <a:stretch/>
        </p:blipFill>
        <p:spPr>
          <a:xfrm>
            <a:off x="380880" y="1554120"/>
            <a:ext cx="8305920" cy="52275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749640" y="6553080"/>
            <a:ext cx="236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Comic Sans MS"/>
              </a:rPr>
              <a:t>Slide from Brian O’Conn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49640" y="0"/>
            <a:ext cx="236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Comic Sans MS"/>
              </a:rPr>
              <a:t>Slide from Brian O’Conn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720" y="837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GMODWeb: EnsEMBL Skin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782" t="14582" r="2344" b="7293"/>
          <a:stretch/>
        </p:blipFill>
        <p:spPr>
          <a:xfrm>
            <a:off x="304920" y="1523880"/>
            <a:ext cx="8610480" cy="52070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749640" y="0"/>
            <a:ext cx="236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Comic Sans MS"/>
              </a:rPr>
              <a:t>Slide from Brian O’Conn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ParameciumDB—a ‘Pure’ GMOD DB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91" name="parameciumdb-screenshot" descr=""/>
          <p:cNvPicPr/>
          <p:nvPr/>
        </p:nvPicPr>
        <p:blipFill>
          <a:blip r:embed="rId1"/>
          <a:stretch/>
        </p:blipFill>
        <p:spPr>
          <a:xfrm>
            <a:off x="628560" y="819000"/>
            <a:ext cx="8515440" cy="60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304920" y="228600"/>
            <a:ext cx="8686800" cy="6451560"/>
            <a:chOff x="304920" y="228600"/>
            <a:chExt cx="8686800" cy="6451560"/>
          </a:xfrm>
        </p:grpSpPr>
        <p:pic>
          <p:nvPicPr>
            <p:cNvPr id="90" name="" descr=""/>
            <p:cNvPicPr/>
            <p:nvPr/>
          </p:nvPicPr>
          <p:blipFill>
            <a:blip r:embed="rId1"/>
            <a:srcRect l="1354" t="18045" r="3154" b="2064"/>
            <a:stretch/>
          </p:blipFill>
          <p:spPr>
            <a:xfrm>
              <a:off x="457200" y="228600"/>
              <a:ext cx="3809880" cy="2695680"/>
            </a:xfrm>
            <a:prstGeom prst="rect">
              <a:avLst/>
            </a:prstGeom>
            <a:ln w="12600">
              <a:solidFill>
                <a:srgbClr val="f6c8bb"/>
              </a:solidFill>
              <a:miter/>
            </a:ln>
          </p:spPr>
        </p:pic>
        <p:pic>
          <p:nvPicPr>
            <p:cNvPr id="91" name="" descr=""/>
            <p:cNvPicPr/>
            <p:nvPr/>
          </p:nvPicPr>
          <p:blipFill>
            <a:blip r:embed="rId2"/>
            <a:srcRect l="1354" t="18045" r="3154" b="2064"/>
            <a:stretch/>
          </p:blipFill>
          <p:spPr>
            <a:xfrm>
              <a:off x="1752480" y="1600200"/>
              <a:ext cx="3276720" cy="2317680"/>
            </a:xfrm>
            <a:prstGeom prst="rect">
              <a:avLst/>
            </a:prstGeom>
            <a:ln w="12600">
              <a:solidFill>
                <a:srgbClr val="f6c8bb"/>
              </a:solidFill>
              <a:miter/>
            </a:ln>
          </p:spPr>
        </p:pic>
        <p:pic>
          <p:nvPicPr>
            <p:cNvPr id="92" name="" descr=""/>
            <p:cNvPicPr/>
            <p:nvPr/>
          </p:nvPicPr>
          <p:blipFill>
            <a:blip r:embed="rId3"/>
            <a:srcRect l="1354" t="18045" r="3154" b="2064"/>
            <a:stretch/>
          </p:blipFill>
          <p:spPr>
            <a:xfrm>
              <a:off x="4876920" y="685800"/>
              <a:ext cx="3657600" cy="2587680"/>
            </a:xfrm>
            <a:prstGeom prst="rect">
              <a:avLst/>
            </a:prstGeom>
            <a:ln w="12600">
              <a:solidFill>
                <a:srgbClr val="f6c8bb"/>
              </a:solidFill>
              <a:miter/>
            </a:ln>
          </p:spPr>
        </p:pic>
        <p:pic>
          <p:nvPicPr>
            <p:cNvPr id="93" name="" descr=""/>
            <p:cNvPicPr/>
            <p:nvPr/>
          </p:nvPicPr>
          <p:blipFill>
            <a:blip r:embed="rId4"/>
            <a:srcRect l="8560" t="18045" r="7658" b="2064"/>
            <a:stretch/>
          </p:blipFill>
          <p:spPr>
            <a:xfrm>
              <a:off x="304920" y="3809880"/>
              <a:ext cx="3429000" cy="2765520"/>
            </a:xfrm>
            <a:prstGeom prst="rect">
              <a:avLst/>
            </a:prstGeom>
            <a:ln w="12600">
              <a:solidFill>
                <a:srgbClr val="f6c8bb"/>
              </a:solidFill>
              <a:miter/>
            </a:ln>
          </p:spPr>
        </p:pic>
        <p:pic>
          <p:nvPicPr>
            <p:cNvPr id="94" name="" descr=""/>
            <p:cNvPicPr/>
            <p:nvPr/>
          </p:nvPicPr>
          <p:blipFill>
            <a:blip r:embed="rId5"/>
            <a:srcRect l="1354" t="18045" r="3154" b="2064"/>
            <a:stretch/>
          </p:blipFill>
          <p:spPr>
            <a:xfrm>
              <a:off x="5257800" y="4038480"/>
              <a:ext cx="3733920" cy="2641680"/>
            </a:xfrm>
            <a:prstGeom prst="rect">
              <a:avLst/>
            </a:prstGeom>
            <a:ln w="12600">
              <a:solidFill>
                <a:srgbClr val="f6c8bb"/>
              </a:solidFill>
              <a:miter/>
            </a:ln>
          </p:spPr>
        </p:pic>
        <p:pic>
          <p:nvPicPr>
            <p:cNvPr id="95" name="" descr=""/>
            <p:cNvPicPr/>
            <p:nvPr/>
          </p:nvPicPr>
          <p:blipFill>
            <a:blip r:embed="rId6"/>
            <a:srcRect l="1354" t="16978" r="3154" b="5260"/>
            <a:stretch/>
          </p:blipFill>
          <p:spPr>
            <a:xfrm>
              <a:off x="2438280" y="3352680"/>
              <a:ext cx="3962520" cy="2729160"/>
            </a:xfrm>
            <a:prstGeom prst="rect">
              <a:avLst/>
            </a:prstGeom>
            <a:ln w="12600">
              <a:solidFill>
                <a:srgbClr val="f6c8bb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arameciumdb-genepage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001000" cy="44960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360" y="166320"/>
            <a:ext cx="777060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ParameciumDB Gene Page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7060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Textpresso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35000" y="1066320"/>
            <a:ext cx="7726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Facilitates full text searches of research papers (search scope from single sentence to full document)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Facilitates keyword and category searches (adds meaning)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ntology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has set of 50 categories containing 1.1 million term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consists of scientific part (such as GO) as well as “colloquial” one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C. elegans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corpus has 7,800 papers, 22,000 abstracts, updated weekly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6234480" y="0"/>
            <a:ext cx="289800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Comic Sans MS"/>
              </a:rPr>
              <a:t>Slide from Hans-Michael Muell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Text markup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162560" cy="28576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762120" y="1600200"/>
            <a:ext cx="7219800" cy="19242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62120" y="4495680"/>
            <a:ext cx="7315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rk up the whole corpus of papers with terms of categories and index mark-ups for search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34480" y="0"/>
            <a:ext cx="289800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Comic Sans MS"/>
              </a:rPr>
              <a:t>Slide from Hans-Michael Muell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77060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Textpresso searching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33520" y="990720"/>
            <a:ext cx="8206920" cy="4846680"/>
            <a:chOff x="533520" y="990720"/>
            <a:chExt cx="8206920" cy="4846680"/>
          </a:xfrm>
        </p:grpSpPr>
        <p:pic>
          <p:nvPicPr>
            <p:cNvPr id="204" name="" descr=""/>
            <p:cNvPicPr/>
            <p:nvPr/>
          </p:nvPicPr>
          <p:blipFill>
            <a:blip r:embed="rId1"/>
            <a:stretch/>
          </p:blipFill>
          <p:spPr>
            <a:xfrm>
              <a:off x="533520" y="990720"/>
              <a:ext cx="5943600" cy="484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5" name=""/>
            <p:cNvGrpSpPr/>
            <p:nvPr/>
          </p:nvGrpSpPr>
          <p:grpSpPr>
            <a:xfrm>
              <a:off x="1904760" y="4876920"/>
              <a:ext cx="4021200" cy="398880"/>
              <a:chOff x="1904760" y="4876920"/>
              <a:chExt cx="4021200" cy="398880"/>
            </a:xfrm>
          </p:grpSpPr>
          <p:sp>
            <p:nvSpPr>
              <p:cNvPr id="206" name=""/>
              <p:cNvSpPr/>
              <p:nvPr/>
            </p:nvSpPr>
            <p:spPr>
              <a:xfrm flipH="1">
                <a:off x="1904760" y="5094360"/>
                <a:ext cx="762120" cy="1522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800800" y="4876920"/>
                <a:ext cx="3125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Case sensitive search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3276720" y="3505320"/>
              <a:ext cx="541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(will including bracketing in near future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1067040" y="3048120"/>
              <a:ext cx="7673400" cy="685800"/>
              <a:chOff x="1067040" y="3048120"/>
              <a:chExt cx="7673400" cy="685800"/>
            </a:xfrm>
          </p:grpSpPr>
          <p:sp>
            <p:nvSpPr>
              <p:cNvPr id="210" name=""/>
              <p:cNvSpPr/>
              <p:nvPr/>
            </p:nvSpPr>
            <p:spPr>
              <a:xfrm>
                <a:off x="3276720" y="3048120"/>
                <a:ext cx="546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Boolean operations for keyword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1067040" y="3276720"/>
                <a:ext cx="380880" cy="457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1447560" y="3276720"/>
                <a:ext cx="380520" cy="457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2133720" y="3276720"/>
                <a:ext cx="75600" cy="457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447920" y="3276720"/>
                <a:ext cx="17521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1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2210040" y="3809520"/>
              <a:ext cx="5844600" cy="399240"/>
              <a:chOff x="2210040" y="3809520"/>
              <a:chExt cx="5844600" cy="399240"/>
            </a:xfrm>
          </p:grpSpPr>
          <p:sp>
            <p:nvSpPr>
              <p:cNvPr id="216" name=""/>
              <p:cNvSpPr/>
              <p:nvPr/>
            </p:nvSpPr>
            <p:spPr>
              <a:xfrm flipV="1">
                <a:off x="2210040" y="3809520"/>
                <a:ext cx="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7" name=""/>
              <p:cNvGrpSpPr/>
              <p:nvPr/>
            </p:nvGrpSpPr>
            <p:grpSpPr>
              <a:xfrm>
                <a:off x="2210040" y="3809520"/>
                <a:ext cx="5844600" cy="399240"/>
                <a:chOff x="2210040" y="3809520"/>
                <a:chExt cx="5844600" cy="399240"/>
              </a:xfrm>
            </p:grpSpPr>
            <p:sp>
              <p:nvSpPr>
                <p:cNvPr id="218" name=""/>
                <p:cNvSpPr/>
                <p:nvPr/>
              </p:nvSpPr>
              <p:spPr>
                <a:xfrm flipV="1">
                  <a:off x="3048120" y="3809520"/>
                  <a:ext cx="0" cy="304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6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2210040" y="4114800"/>
                  <a:ext cx="32000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16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486400" y="3809880"/>
                  <a:ext cx="2568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Arial"/>
                    </a:rPr>
                    <a:t>Phrase search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1" name=""/>
          <p:cNvSpPr/>
          <p:nvPr/>
        </p:nvSpPr>
        <p:spPr>
          <a:xfrm>
            <a:off x="0" y="5494320"/>
            <a:ext cx="7391520" cy="13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ets you query lik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I want to learn about all genes that interact with gene x in cell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234480" y="0"/>
            <a:ext cx="289800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Comic Sans MS"/>
              </a:rPr>
              <a:t>Slide from Hans-Michael Muell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Getting started with Textpresso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Linux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pache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Lots of disk space (~3GB/1000 full text papers)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ull text papers in pdf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http://www.textpresso.org/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720" y="837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Other Component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36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Pathway Tools – metabolic pathway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BioMart – data mining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Ergatis – genome analysis workflow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PubSearch/PubFetch – literature management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Lucegene – keyword search of genome annotation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Sybil – synteny viewer for Chado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837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Packaging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401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RPM-based installs: </a:t>
            </a:r>
            <a:r>
              <a:rPr b="0" i="1" lang="en-GB" sz="3200" spc="-1" strike="noStrike">
                <a:solidFill>
                  <a:srgbClr val="0000ff"/>
                </a:solidFill>
                <a:latin typeface="Comic Sans MS"/>
              </a:rPr>
              <a:t>biopackages.net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(Fedora and CentOS)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Virtual machines with software (new)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Source-based “make install”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Examples &amp; tutorial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Help desk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Mailing list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837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Tangible Benefit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A community-supported platform on which to build genome-scale databases.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New generation of semantically interoperable MODs (DAS2).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ParameciumDB, BeetleBase, BeeBase, VectorBase, BovineBase, GallusDB, AphidBase, Xanthusbase,ToxoDB, GiardiaDB, LIS, KISS, T1Db, T2Db, CNV Browser, SwissRegulon...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227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More Information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4572000" cy="457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Credits: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Lincoln Stein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Ken Clark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Allen Day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Karen Eilbeck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David Emmert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Ben Faga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Linda Sperling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Olivier Arnaiz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4648320" y="3076560"/>
            <a:ext cx="3392280" cy="36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Nomi Harr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Mark Gib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Sima Mish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Chris Mung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Brian O’Conn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Eric J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Don Gilbe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Peter Kar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0880" y="1143000"/>
            <a:ext cx="7913520" cy="12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ww.gmod.org for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ownloads, documentation, mailing li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91800" y="6348240"/>
            <a:ext cx="26953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…</a:t>
            </a: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and many m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837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Three Views of a Gene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640800" y="149400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orm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13530" t="15719" r="13295" b="43951"/>
          <a:stretch/>
        </p:blipFill>
        <p:spPr>
          <a:xfrm>
            <a:off x="838080" y="2057400"/>
            <a:ext cx="6248520" cy="1069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rcRect l="23226" t="34597" r="1932" b="39459"/>
          <a:stretch/>
        </p:blipFill>
        <p:spPr>
          <a:xfrm>
            <a:off x="838080" y="3505320"/>
            <a:ext cx="4419720" cy="914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61840" y="320040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G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762120" y="5362560"/>
            <a:ext cx="4762440" cy="428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84080" y="498168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G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837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The GMOD Project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925040" cy="412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Standardized solutions for model organism database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Multiple MODs involve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Original participants: Worm, fly, yeast, mouse, arabidopsis, rat, rice, E. coli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Funded by NIH, USDA/ARS, NF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Programmers, coordinator, help desk, workshop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1875960" y="5729400"/>
            <a:ext cx="643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Bradley Hand ITC"/>
              </a:rPr>
              <a:t>http://www.gmod.or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09480" y="5881680"/>
            <a:ext cx="1524240" cy="5367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7606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The Components of GMOD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52280" y="4952880"/>
            <a:ext cx="3503880" cy="1617840"/>
            <a:chOff x="152280" y="4952880"/>
            <a:chExt cx="3503880" cy="1617840"/>
          </a:xfrm>
        </p:grpSpPr>
        <p:sp>
          <p:nvSpPr>
            <p:cNvPr id="109" name=""/>
            <p:cNvSpPr/>
            <p:nvPr/>
          </p:nvSpPr>
          <p:spPr>
            <a:xfrm>
              <a:off x="152280" y="5181120"/>
              <a:ext cx="1604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tandard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web s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1"/>
            <a:srcRect l="721" t="11581" r="4426" b="3897"/>
            <a:stretch/>
          </p:blipFill>
          <p:spPr>
            <a:xfrm>
              <a:off x="1904400" y="4952880"/>
              <a:ext cx="1751760" cy="161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"/>
          <p:cNvGrpSpPr/>
          <p:nvPr/>
        </p:nvGrpSpPr>
        <p:grpSpPr>
          <a:xfrm>
            <a:off x="77400" y="3352680"/>
            <a:ext cx="3197160" cy="1274760"/>
            <a:chOff x="77400" y="3352680"/>
            <a:chExt cx="3197160" cy="1274760"/>
          </a:xfrm>
        </p:grpSpPr>
        <p:sp>
          <p:nvSpPr>
            <p:cNvPr id="112" name=""/>
            <p:cNvSpPr/>
            <p:nvPr/>
          </p:nvSpPr>
          <p:spPr>
            <a:xfrm>
              <a:off x="77400" y="3384360"/>
              <a:ext cx="182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tandard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ile forma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284560" y="3352680"/>
              <a:ext cx="990000" cy="127476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786920" y="4222800"/>
            <a:ext cx="4204800" cy="1191240"/>
            <a:chOff x="4786920" y="4222800"/>
            <a:chExt cx="4204800" cy="1191240"/>
          </a:xfrm>
        </p:grpSpPr>
        <p:sp>
          <p:nvSpPr>
            <p:cNvPr id="115" name=""/>
            <p:cNvSpPr/>
            <p:nvPr/>
          </p:nvSpPr>
          <p:spPr>
            <a:xfrm>
              <a:off x="4786920" y="4222800"/>
              <a:ext cx="1811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tandar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owsers &amp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dito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2"/>
            <a:srcRect l="905" t="28856" r="29572" b="13655"/>
            <a:stretch/>
          </p:blipFill>
          <p:spPr>
            <a:xfrm>
              <a:off x="7010280" y="4222800"/>
              <a:ext cx="1981440" cy="114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"/>
          <p:cNvGrpSpPr/>
          <p:nvPr/>
        </p:nvGrpSpPr>
        <p:grpSpPr>
          <a:xfrm>
            <a:off x="87840" y="1828800"/>
            <a:ext cx="4548960" cy="1162080"/>
            <a:chOff x="87840" y="1828800"/>
            <a:chExt cx="4548960" cy="1162080"/>
          </a:xfrm>
        </p:grpSpPr>
        <p:sp>
          <p:nvSpPr>
            <p:cNvPr id="118" name=""/>
            <p:cNvSpPr/>
            <p:nvPr/>
          </p:nvSpPr>
          <p:spPr>
            <a:xfrm>
              <a:off x="87840" y="2057040"/>
              <a:ext cx="1697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Standar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ontolog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9" name="" descr=""/>
            <p:cNvPicPr/>
            <p:nvPr/>
          </p:nvPicPr>
          <p:blipFill>
            <a:blip r:embed="rId3"/>
            <a:srcRect l="0" t="0" r="33729" b="0"/>
            <a:stretch/>
          </p:blipFill>
          <p:spPr>
            <a:xfrm>
              <a:off x="2361600" y="1828800"/>
              <a:ext cx="2275200" cy="116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" name=""/>
          <p:cNvGrpSpPr/>
          <p:nvPr/>
        </p:nvGrpSpPr>
        <p:grpSpPr>
          <a:xfrm>
            <a:off x="4812840" y="2470320"/>
            <a:ext cx="4178880" cy="1333440"/>
            <a:chOff x="4812840" y="2470320"/>
            <a:chExt cx="4178880" cy="1333440"/>
          </a:xfrm>
        </p:grpSpPr>
        <p:pic>
          <p:nvPicPr>
            <p:cNvPr id="121" name="sequence.diagram" descr=""/>
            <p:cNvPicPr/>
            <p:nvPr/>
          </p:nvPicPr>
          <p:blipFill>
            <a:blip r:embed="rId4"/>
            <a:stretch/>
          </p:blipFill>
          <p:spPr>
            <a:xfrm>
              <a:off x="6451560" y="2470320"/>
              <a:ext cx="2540160" cy="13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4812840" y="2698560"/>
              <a:ext cx="148968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1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tandar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1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chem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456120"/>
            <a:ext cx="7772400" cy="106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Comic Sans MS"/>
              </a:rPr>
              <a:t>Sequence Ontology</a:t>
            </a:r>
            <a:br>
              <a:rPr sz="4000"/>
            </a:br>
            <a:r>
              <a:rPr b="0" lang="en-GB" sz="2400" spc="-1" strike="noStrike">
                <a:solidFill>
                  <a:srgbClr val="808080"/>
                </a:solidFill>
                <a:latin typeface="Comic Sans MS"/>
              </a:rPr>
              <a:t>Karen Eilbeck (U. Utah)</a:t>
            </a:r>
            <a:endParaRPr b="0" lang="en-US" sz="2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04920" y="1638360"/>
            <a:ext cx="8534160" cy="5219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-31680" y="6526080"/>
            <a:ext cx="219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Comic Sans MS"/>
              </a:rPr>
              <a:t>Slide from Karen Eilbec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532440"/>
            <a:ext cx="7772400" cy="106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Comic Sans MS"/>
              </a:rPr>
              <a:t>GMOD Schema: Chado </a:t>
            </a:r>
            <a:br>
              <a:rPr sz="4000"/>
            </a:br>
            <a:r>
              <a:rPr b="0" lang="en-GB" sz="2400" spc="-1" strike="noStrike">
                <a:solidFill>
                  <a:srgbClr val="808080"/>
                </a:solidFill>
                <a:latin typeface="Comic Sans MS"/>
              </a:rPr>
              <a:t>David Emmert (FlyBase), Chris Mungall (Berkeley)</a:t>
            </a:r>
            <a:endParaRPr b="0" lang="en-US" sz="2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Modular and ontology-driven for flexibility and extensibility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3625920"/>
            <a:ext cx="5333760" cy="228600"/>
          </a:xfrm>
          <a:prstGeom prst="rightArrow">
            <a:avLst>
              <a:gd name="adj1" fmla="val 50000"/>
              <a:gd name="adj2" fmla="val 195840"/>
            </a:avLst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9840" y="377820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e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16550" t="13282" r="15296" b="84723"/>
          <a:stretch/>
        </p:blipFill>
        <p:spPr>
          <a:xfrm>
            <a:off x="533520" y="4495680"/>
            <a:ext cx="5518080" cy="127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32440" y="4616280"/>
            <a:ext cx="77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mR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905120" y="5213520"/>
            <a:ext cx="1752480" cy="1492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306520" y="6438960"/>
            <a:ext cx="87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te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rcRect l="0" t="0" r="0" b="63040"/>
          <a:stretch/>
        </p:blipFill>
        <p:spPr>
          <a:xfrm>
            <a:off x="5334120" y="2774880"/>
            <a:ext cx="3352680" cy="8064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895480" y="3886200"/>
            <a:ext cx="18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64160" y="4006800"/>
            <a:ext cx="105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transcrip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4648320"/>
            <a:ext cx="1800" cy="571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73160" y="469260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translation_produ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28" idx="0"/>
            <a:endCxn id="134" idx="2"/>
          </p:cNvCxnSpPr>
          <p:nvPr/>
        </p:nvCxnSpPr>
        <p:spPr>
          <a:xfrm flipV="1">
            <a:off x="5866920" y="3580560"/>
            <a:ext cx="1143720" cy="15948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6009480" y="380988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genomic loc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entral Dogma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372520" cy="46386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7080" y="6526080"/>
            <a:ext cx="22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Comic Sans MS"/>
              </a:rPr>
              <a:t>Slide from Stan Letovsk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tt Cain</cp:lastModifiedBy>
  <dcterms:modified xsi:type="dcterms:W3CDTF">2007-07-09T13:15:33Z</dcterms:modified>
  <cp:revision>16</cp:revision>
  <dc:subject/>
  <dc:title>The GMOD Project: Creating Reusable Software Components for Genome Data</dc:title>
</cp:coreProperties>
</file>